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189-2C2B-48E3-9952-27929DD7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D4D-0F67-4765-BA4D-72AE35F2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93B-7B5B-428E-A035-7E769165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8FC-B402-4EBB-87C9-624FFB6A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893-1BF8-489A-B0D1-A313388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D70-CCD8-41A6-8D6E-15E6922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DF0-05AF-4381-9C26-C4D07AC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3CC-B1CA-4217-9FF3-DF09E7A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60A-D63B-4A1A-9131-9F2B6C76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565-FD78-40F1-AAF5-438E2E0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2FD-1850-4D07-9E88-98C1FEE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8A5-F5BB-4CEF-B9AD-AFEAC392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8BD6-EB40-4E38-BB91-E9167C47E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ewelrymall.com/cgibin/xlinker.cgi?loc=123&amp;lf=12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bensguide.gpo.gov/3-5/state/florida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199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Skylar, 9-20-10, Period 4, Computer numb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586600">
            <a:off x="515520" y="1514160"/>
            <a:ext cx="7624800" cy="300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8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lorida</a:t>
            </a:r>
            <a:endParaRPr b="0" lang="en-US" sz="1800" spc="1" strike="noStrike">
              <a:ln w="255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304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state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rida so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7-10 www.50states.com/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name: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Tallahas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ed in the Union: March 3, 1845 as the 27th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: In God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: the sunshin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: Orange Blos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: The mocking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: the Swane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behind the name: Flowered, flowery, but also suggesting Easter, when the name w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esting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lorida the rocks or gems that you might be able to find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st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gatized Co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438280"/>
            <a:ext cx="1362240" cy="1685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29718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stone Jewelr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welry Mal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-22-10, http://www.jewelrymall.com/stones/moonsto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lorida: Map and State Flag"/>
          <p:cNvPicPr/>
          <p:nvPr/>
        </p:nvPicPr>
        <p:blipFill>
          <a:blip r:embed="rId1"/>
          <a:srcRect l="10141" t="0" r="9956" b="68017"/>
          <a:stretch/>
        </p:blipFill>
        <p:spPr>
          <a:xfrm>
            <a:off x="609480" y="685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lorida: Map and State Flag"/>
          <p:cNvPicPr/>
          <p:nvPr/>
        </p:nvPicPr>
        <p:blipFill>
          <a:blip r:embed="rId2"/>
          <a:srcRect l="-6753" t="34672" r="-4840" b="-9322"/>
          <a:stretch/>
        </p:blipFill>
        <p:spPr>
          <a:xfrm>
            <a:off x="4495680" y="2819520"/>
            <a:ext cx="4267440" cy="362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41148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’s guide to U.S. Governmen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ick Fact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-22-10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ensguide.gpo.gov/3-5/state/florid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All images Copyright © 1997 - 2000 WriteLine. All Rights Reserved."/>
          <p:cNvPicPr/>
          <p:nvPr/>
        </p:nvPicPr>
        <p:blipFill>
          <a:blip r:embed="rId1"/>
          <a:stretch/>
        </p:blipFill>
        <p:spPr>
          <a:xfrm>
            <a:off x="228600" y="22860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743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. Marks National Wildlife Refu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-23-10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stcardsfrom.com/t1/00032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© 2000 WriteLine. Orange Blossom"/>
          <p:cNvPicPr/>
          <p:nvPr/>
        </p:nvPicPr>
        <p:blipFill>
          <a:blip r:embed="rId2"/>
          <a:stretch/>
        </p:blipFill>
        <p:spPr>
          <a:xfrm>
            <a:off x="6400800" y="304920"/>
            <a:ext cx="2362320" cy="1847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5880" y="251460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cards from Americ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bal Palm/ Orange Blossom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-23-10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postcardsfrom.com/stamp/stamp-f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© 2000 WriteLine. Sabal Palm"/>
          <p:cNvPicPr/>
          <p:nvPr/>
        </p:nvPicPr>
        <p:blipFill>
          <a:blip r:embed="rId3"/>
          <a:stretch/>
        </p:blipFill>
        <p:spPr>
          <a:xfrm>
            <a:off x="6629400" y="4419720"/>
            <a:ext cx="1743120" cy="2190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2680" y="54100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are pictures of the Sabal Palm and the orange bloss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962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rounding the famous St. Marks wildlife refuge are many different habitats, home to migrant and resident wild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22Z</dcterms:created>
  <dc:creator>install</dc:creator>
  <dc:description/>
  <dc:language>en-US</dc:language>
  <cp:lastModifiedBy>install</cp:lastModifiedBy>
  <dcterms:modified xsi:type="dcterms:W3CDTF">2010-10-14T15:24:06Z</dcterms:modified>
  <cp:revision>9</cp:revision>
  <dc:subject/>
  <dc:title>Slide 1</dc:title>
</cp:coreProperties>
</file>